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gif" ContentType="image/gif"/>
  <Override PartName="/ppt/media/image5.png" ContentType="image/png"/>
  <Override PartName="/ppt/media/image10.png" ContentType="image/png"/>
  <Override PartName="/ppt/media/image2.jpeg" ContentType="image/jpeg"/>
  <Override PartName="/ppt/media/image12.png" ContentType="image/png"/>
  <Override PartName="/ppt/media/image1.jpeg" ContentType="image/jpeg"/>
  <Override PartName="/ppt/media/image7.png" ContentType="image/png"/>
  <Override PartName="/ppt/media/image4.gif" ContentType="image/gif"/>
  <Override PartName="/ppt/media/image8.png" ContentType="image/png"/>
  <Override PartName="/ppt/media/image13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313E-02FF-464F-A56B-8DDC87D5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63B1-5432-480E-B91D-BE0DA68E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D6A-1399-4190-8C84-EA7A0020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73C8-DDB2-43B4-8934-9BFFE73B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DF5D-6228-4A41-80FD-B51AA845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C7EE-7057-48D0-A220-51AA4526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70B8-9534-401F-8D7B-2186D7A5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B80C-E61C-4420-BFC9-6BB954E1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42A2-2B20-4C5C-AAD9-0B0ABD0B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24CB-E0A6-42B4-A4DA-5822DDA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09A0-B87A-4074-9D61-99810A6F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887-703E-486C-8A8C-45FA2704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BFBE-26E6-4451-AC16-E327DCFE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A0BF-D9C8-4AFE-961B-6F200411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5B35-CE25-4289-891E-856C4502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43BE-4669-48F3-A6AC-C0CE766D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A3F2-4E91-48D5-A1C7-2E27ADEA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1CE0-C3AF-43A9-9FBC-362ACBA5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577E-B57A-4752-9E99-08BE5B85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917-6013-494E-88A1-C54DB97D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C89-760A-4ACA-B13E-7E1E75BB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A65-836D-4A91-9ACD-AFC41CA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F9F-FAA3-4C9B-BCC0-B49BDBC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A49A-0E61-4812-A671-E37681B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18C0-BE1C-4F0E-B2F9-99F126CC592D}" type="slidenum"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E06A-1F1E-4AFB-8E1E-C5DCD7158949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sumanasinc.com/webcontent/anisamples/nonmajorsbiology/proteinstructure.html" TargetMode="External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mass.edu/microbio/chime/pe_beta/pe/protexpl/animgif.htm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PROTEIN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705720" y="1143000"/>
            <a:ext cx="192060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601-0C27-4F00-A52A-5D70B91553AD}" type="slidenum">
              <a:t>1</a:t>
            </a:fld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Denaturating Protei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219320"/>
            <a:ext cx="815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Changes in temperature &amp; pH can denature (unfold) a protein so it no longer wor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143000" y="3733920"/>
            <a:ext cx="2629080" cy="2047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029200" y="2724120"/>
            <a:ext cx="317196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3520" y="28195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k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natur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protein in eg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1055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k protein separates into curds &amp; whey when it denatu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C71-66BE-4BD0-9B23-FD808DF373ED}" type="slidenum">
              <a:t>10</a:t>
            </a:fld>
          </a:p>
        </p:txBody>
      </p:sp>
    </p:spTree>
  </p:cSld>
  <p:transition spd="med">
    <p:fade thruBlk="true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hanging Amino Acid Sequenc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1143000"/>
            <a:ext cx="7696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Substitution of one amino acid for another in hemoglobin causes sickle-cell disease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rcRect l="2750" t="4296" r="2750" b="16017"/>
          <a:stretch/>
        </p:blipFill>
        <p:spPr>
          <a:xfrm>
            <a:off x="1981080" y="2743200"/>
            <a:ext cx="5119920" cy="2762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13960" y="3736800"/>
            <a:ext cx="2555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) Normal red blood c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>
            <a:off x="4934520" y="3736800"/>
            <a:ext cx="20811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 hemoglo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4074840" y="335268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4514760" y="324180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4900320" y="329724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284800" y="351144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5726160" y="351792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329724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6547320" y="3181320"/>
            <a:ext cx="878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. . 1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1713600" y="5670720"/>
            <a:ext cx="2577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b) Sickled red blood cel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4885920" y="5670720"/>
            <a:ext cx="2375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ckle-cell hemoglobi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458960" y="511956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4905360" y="516888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4074840" y="517536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284800" y="538956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740560" y="5389560"/>
            <a:ext cx="29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175080" y="5175360"/>
            <a:ext cx="279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>
            <a:off x="6556680" y="5064120"/>
            <a:ext cx="8787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 . . 1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700-469F-450E-8414-16E9A186022B}" type="slidenum">
              <a:t>11</a:t>
            </a:fld>
          </a:p>
        </p:txBody>
      </p:sp>
    </p:spTree>
  </p:cSld>
  <p:transition spd="med">
    <p:fade thruBlk="true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8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8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Proteins as Enzym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Many proteins act as biological catalysts or enzym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5909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Thousands of different enzymes exist in the b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373392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Enzymes control the rate of chemical reactions by weakening bonds, thus lowering the amount of activation energy needed for the re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1E3-3DF0-431B-B011-65F2BE7333CF}" type="slidenum">
              <a:t>12</a:t>
            </a:fld>
          </a:p>
        </p:txBody>
      </p:sp>
    </p:spTree>
  </p:cSld>
  <p:transition spd="med">
    <p:fade thruBlk="true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Enzym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9810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Their folded conformation creates an area known as the active site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2193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Enzymes are globular protei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886200"/>
            <a:ext cx="6705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The nature and arrangement of amino acids in the active site make it specific for only one type of substrat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436-195B-4572-8926-9E780A06A34D}" type="slidenum">
              <a:t>13</a:t>
            </a:fld>
          </a:p>
        </p:txBody>
      </p:sp>
    </p:spTree>
  </p:cSld>
  <p:transition spd="med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+ Substrate = Produc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001000" cy="50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48A-08AE-448B-9198-FD58FF1FDF2F}" type="slidenum">
              <a:t>14</a:t>
            </a:fld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How the Enzyme Work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791320" cy="46828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133720" y="57913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nzymes are reusable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5DF-ADC6-4A23-BA48-FCD769B269DA}" type="slidenum">
              <a:t>15</a:t>
            </a:fld>
          </a:p>
        </p:txBody>
      </p:sp>
    </p:spTree>
  </p:cSld>
  <p:transition spd="med">
    <p:fade thruBlk="true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otei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roteins are polymers made of monomers called amino acids (aka building blocks) 8-10 we can not make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9718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All proteins are made of 20 different amino acids linked in different or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4343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Proteins are used to build cells, act as hormones &amp; enzymes, and do much of the work in a cel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96080" y="5353200"/>
            <a:ext cx="1257480" cy="94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336D-893F-4AE1-A3D3-D01A8437F717}" type="slidenum">
              <a:t>2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14600" y="327636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in complement of organism: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proteins specified by genes within an organis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Comic Sans MS"/>
              </a:rPr>
              <a:t>Estimated Functional Roles (by % of Proteins)</a:t>
            </a:r>
            <a:endParaRPr b="0" lang="en-US" sz="33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852480"/>
            <a:ext cx="6629400" cy="583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B7CC-528B-4C45-BF4F-BF435C6CB4FB}" type="slidenum">
              <a:t>3</a:t>
            </a:fld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Protein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295280"/>
            <a:ext cx="78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teins are generally classified as either fibrous or globula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2209680"/>
            <a:ext cx="739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al proteins - collagen, silk, microtubule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ulatory proteins (hormones) - insulin, growth hormone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actile proteins - Actin, myosin, dynein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 proteins - hemoglobin, myoglobi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proteins - egg white, seed protei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ctive proteins - antibodies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rane proteins - membrane-transport, channel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zymes - most proteins ending in -ase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2D5-92A7-4E44-8224-9FBA2ACBF816}" type="slidenum">
              <a:t>4</a:t>
            </a:fld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000"/>
                            </p:stCondLst>
                            <p:childTnLst>
                              <p:par>
                                <p:cTn id="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6000"/>
                            </p:stCondLst>
                            <p:childTnLst>
                              <p:par>
                                <p:cTn id="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10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7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tructure of Amino Acid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Amino acids have a central carbon with 4 things bonded to it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33526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4c26"/>
                </a:solidFill>
                <a:latin typeface="Comic Sans MS"/>
              </a:rPr>
              <a:t>Amino group-NH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Carboxyl group-COO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4724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drogen-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4100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mic Sans MS"/>
              </a:rPr>
              <a:t>Side group-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947" t="10331" r="2665" b="14300"/>
          <a:stretch/>
        </p:blipFill>
        <p:spPr>
          <a:xfrm>
            <a:off x="4495680" y="1143000"/>
            <a:ext cx="438948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95680" y="1219320"/>
            <a:ext cx="12193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7391520" y="1219320"/>
            <a:ext cx="1752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boxy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2590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80060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de grou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5943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ucine -hydrophob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5562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ine-hydrophill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336-AFE1-4F7D-BFD3-7A2054DD0F81}" type="slidenum">
              <a:t>5</a:t>
            </a:fld>
          </a:p>
        </p:txBody>
      </p:sp>
    </p:spTree>
  </p:cSld>
  <p:transition spd="med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nking Amino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Cells link amino acids together to make protei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41148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Peptide bonds form to hold the amino acids togeth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2256" t="9338" r="7419" b="8345"/>
          <a:stretch/>
        </p:blipFill>
        <p:spPr>
          <a:xfrm>
            <a:off x="4343400" y="114300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952880" y="838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boxy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19051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20968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de Grou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3352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hydration Synthe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59436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ptide B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49C-750C-428E-8316-A65A8B9FF4F6}" type="slidenum">
              <a:t>6</a:t>
            </a:fld>
          </a:p>
        </p:txBody>
      </p:sp>
    </p:spTree>
  </p:cSld>
  <p:transition spd="med"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imary Protein Structur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1767" t="3388" r="2940" b="3795"/>
          <a:stretch/>
        </p:blipFill>
        <p:spPr>
          <a:xfrm>
            <a:off x="3352680" y="914400"/>
            <a:ext cx="4881600" cy="5638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676520"/>
            <a:ext cx="327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primary structure is the specific sequence of amino acids in a prote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52578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200400" y="4343400"/>
            <a:ext cx="19051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A80-7E88-448B-B0A0-242B00A59C7C}" type="slidenum">
              <a:t>7</a:t>
            </a:fld>
          </a:p>
        </p:txBody>
      </p:sp>
    </p:spTree>
  </p:cSld>
  <p:transition spd="med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Protein Structur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econdary protein structures occur when protein chains coil or fol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2819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en protein chains called polypeptides join together, the tertiary structure for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4648320"/>
            <a:ext cx="807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In the watery environment of a cell, proteins become globular in their quaternary struc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3826-E192-4298-A503-26DEC1550BB5}" type="slidenum">
              <a:t>8</a:t>
            </a:fld>
          </a:p>
        </p:txBody>
      </p:sp>
    </p:spTree>
  </p:cSld>
  <p:transition spd="med">
    <p:fade thruBlk="true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 Main Groups-Protein Structure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rcRect l="787" t="781" r="11750" b="8986"/>
          <a:stretch/>
        </p:blipFill>
        <p:spPr>
          <a:xfrm>
            <a:off x="1281240" y="1165320"/>
            <a:ext cx="6796080" cy="471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943240" y="175248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3674520" y="2597040"/>
            <a:ext cx="1329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ted shee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1515600" y="3046320"/>
            <a:ext cx="1140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014120" y="3362400"/>
            <a:ext cx="1937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) Prim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1533240" y="394668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2911680" y="4554360"/>
            <a:ext cx="1131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ha helix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929120"/>
            <a:ext cx="15764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b) Second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6113520" y="2786040"/>
            <a:ext cx="1506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ingle subunit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>
            <a:off x="4675320" y="4878360"/>
            <a:ext cx="17078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) Terti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6110280" y="5878440"/>
            <a:ext cx="2232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) Quaternary structur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141640" y="2946240"/>
            <a:ext cx="1440" cy="138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34120" y="1828800"/>
            <a:ext cx="284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895480" y="3962160"/>
            <a:ext cx="360360" cy="75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B79-61BF-401B-8B17-9ECB562D5A86}" type="slidenum">
              <a:t>9</a:t>
            </a:fld>
          </a:p>
        </p:txBody>
      </p:sp>
    </p:spTree>
  </p:cSld>
  <p:transition spd="med"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29:47Z</dcterms:created>
  <dc:creator>Cheryl Massengale</dc:creator>
  <dc:description/>
  <dc:language>en-US</dc:language>
  <cp:lastModifiedBy>andrew.culberson</cp:lastModifiedBy>
  <dcterms:modified xsi:type="dcterms:W3CDTF">2007-03-21T12:11:26Z</dcterms:modified>
  <cp:revision>103</cp:revision>
  <dc:subject/>
  <dc:title>Biochemistry of Cells</dc:title>
</cp:coreProperties>
</file>